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04C-9A26-4965-945C-5E446366E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E765-887D-4EAA-A759-2B024D80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B30-8E9C-4E51-95A6-990B4138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CFB-FB11-47B8-BBB7-E2A9398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DA1-1B74-4085-83F1-CCC494BC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6F3-6E36-4467-9694-0E67F114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992-19E6-46EB-AAB5-0D55ECD1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9BD-BC92-4A29-9528-55D27199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70E-B5C0-4B99-B389-6AD18CD6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910-B321-4C34-AFD2-0B4E238A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126-4F32-468D-B4DD-F99DC61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D1A-8718-4820-9DD3-9AF46D0B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9E7-D223-478A-A6E2-9EB9655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5D8-C24A-4526-95F6-768435F8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5591-CD40-4238-8028-BC921AB38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please.com/atlas/country/leban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Map of Lebanon">
            <a:hlinkClick r:id="rId2"/>
          </p:cNvPr>
          <p:cNvPicPr/>
          <p:nvPr/>
        </p:nvPicPr>
        <p:blipFill>
          <a:blip r:embed="rId3"/>
          <a:srcRect l="12000" t="0" r="9512" b="19459"/>
          <a:stretch/>
        </p:blipFill>
        <p:spPr>
          <a:xfrm>
            <a:off x="3657600" y="1371600"/>
            <a:ext cx="2743200" cy="24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http://www.lib.utexas.edu/maps/middle_east_and_asia/middle_east_pol_1976.jpg"/>
          <p:cNvPicPr/>
          <p:nvPr/>
        </p:nvPicPr>
        <p:blipFill>
          <a:blip r:embed="rId4"/>
          <a:stretch/>
        </p:blipFill>
        <p:spPr>
          <a:xfrm>
            <a:off x="6134040" y="0"/>
            <a:ext cx="300996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0" y="1447920"/>
            <a:ext cx="3581280" cy="283716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i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 60%, Christianity 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mestone, salt,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 flipV="1">
            <a:off x="457200" y="388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48520" y="2438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gion of Leba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Flag of Lebanon"/>
          <p:cNvPicPr/>
          <p:nvPr/>
        </p:nvPicPr>
        <p:blipFill>
          <a:blip r:embed="rId5"/>
          <a:stretch/>
        </p:blipFill>
        <p:spPr>
          <a:xfrm>
            <a:off x="0" y="0"/>
            <a:ext cx="2381400" cy="1467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2"/>
          <p:cNvSpPr/>
          <p:nvPr/>
        </p:nvSpPr>
        <p:spPr>
          <a:xfrm>
            <a:off x="2895480" y="457200"/>
            <a:ext cx="3048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An awsome place to l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9625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http://www.un.int/wcm/webdav/site/lebanon/shared/images/Beyrouth.jpg"/>
          <p:cNvPicPr/>
          <p:nvPr/>
        </p:nvPicPr>
        <p:blipFill>
          <a:blip r:embed="rId6"/>
          <a:srcRect l="7253" t="3640" r="10536" b="12348"/>
          <a:stretch/>
        </p:blipFill>
        <p:spPr>
          <a:xfrm>
            <a:off x="5791320" y="3352680"/>
            <a:ext cx="292896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7"/>
          <p:cNvSpPr/>
          <p:nvPr/>
        </p:nvSpPr>
        <p:spPr>
          <a:xfrm>
            <a:off x="548640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Beautiful 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http://www.paragkhanna.com/wp-content/uploads/2010/12/lebanon-1.jpg"/>
          <p:cNvPicPr/>
          <p:nvPr/>
        </p:nvPicPr>
        <p:blipFill>
          <a:blip r:embed="rId7"/>
          <a:srcRect l="10300" t="0" r="12449" b="47200"/>
          <a:stretch/>
        </p:blipFill>
        <p:spPr>
          <a:xfrm>
            <a:off x="0" y="39625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09480" y="6248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Snowy Mountains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648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ody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16"/>
          <p:cNvCxnSpPr/>
          <p:nvPr/>
        </p:nvCxnSpPr>
        <p:spPr>
          <a:xfrm flipH="1" flipV="1">
            <a:off x="7009560" y="1294560"/>
            <a:ext cx="3056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17"/>
          <p:cNvSpPr/>
          <p:nvPr/>
        </p:nvSpPr>
        <p:spPr>
          <a:xfrm>
            <a:off x="73915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http://t0.gstatic.com/images?q=tbn:ANd9GcQP_61xXFrggd6TTIXV4Q5GUv81SY0jdTz8CFc3IIm4FERPZM3bnw"/>
          <p:cNvPicPr/>
          <p:nvPr/>
        </p:nvPicPr>
        <p:blipFill>
          <a:blip r:embed="rId8"/>
          <a:stretch/>
        </p:blipFill>
        <p:spPr>
          <a:xfrm>
            <a:off x="2743200" y="3886200"/>
            <a:ext cx="2895480" cy="1581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>
            <a:off x="274320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inquante=-money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1:23:31Z</dcterms:modified>
  <cp:revision>26</cp:revision>
  <dc:subject/>
  <dc:title>Slide 1</dc:title>
</cp:coreProperties>
</file>